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11A5-0FE1-4C41-ABC2-20827E28E3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69FE-FF11-497B-806D-859856E895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61D6-4D24-407D-8165-4AD01D94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9AB-E40F-4217-B516-B6BD6FE3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62F6-5702-438F-B803-5A01274F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259-A31F-4CDA-B7DB-CB3A0779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62E0-C165-4F58-9FEC-449DBDBD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FF4-B577-4BDE-9EBC-21BE24C5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791-61EE-4B4C-BFB3-80385A44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C747-F9E8-4398-8029-A55B93E7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278-3E78-455B-887F-7A79FD82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7D4-48BE-4DB5-8446-17035D4F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6227-AE35-4B82-9562-2B23ECB1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2A7-2463-4E29-AFD5-8FB56207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02C4-6FC7-4D9A-A5A8-3E67DD3F70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D70C-D7CC-4EFD-AAC9-1182287FBD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08080" y="1433520"/>
          <a:ext cx="8874000" cy="524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433520"/>
                    <a:ext cx="887400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ноября 202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4661-B916-4D68-AC33-226ABF9D66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 на 1 ноября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2020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311040" y="907920"/>
          <a:ext cx="8832960" cy="618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907920"/>
                    <a:ext cx="8832960" cy="618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0-11-02T05:20:34Z</dcterms:modified>
  <cp:revision>121</cp:revision>
  <dc:subject/>
  <dc:title>Презентация PowerPoint</dc:title>
</cp:coreProperties>
</file>